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1552-8464-4401-806A-76895893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9E9-A681-42BB-8EED-3864F0FF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ilkweed from: http://jackiecnaturalresources2015.weebly.com/planting-milkweed--support-monarchs-in-v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E0F-DAA7-4D45-86C4-FD84BFE9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from: https://www.nasa.gov/topics/earth/features/2011-temp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794-3B43-4A9E-AC1D-CDB48BF2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ld.time.com/2012/12/14/what-if-the-worlds-soil-runs-ou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D2FF-9BC0-4F25-A782-55830783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D31-35C4-432D-8AD7-A09D32C7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quizlet.com/98819302/lab-topic-7-plant-functional-anatomy-flash-car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EA5E-F485-4C65-B676-AE7F2A7D1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5/growth-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798-1FDD-4765-8DEB-2E03738A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90B3-E930-46F1-9856-AA55B0EC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F57-BE33-4AC6-961B-7BD9B987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AD6F-9F54-4AB8-A65E-36B6FBC5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group.org/EMspectr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rshscience.blogspot.ca/2015/02/adapt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FDC9-F86D-4959-9A45-ABBEC99FC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lantscience4u.com/2014/11/advantages-and-disadvantages-of.html#.WD66JzKZO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D172-4092-4BD4-B385-7FCEA260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A3E-2C17-47F3-8187-C5C6A34B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512-4A49-42FD-93B6-FE516F1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D27-2252-4029-8076-DA1F5629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78B-CFDE-430F-B602-453AC6C7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C53-9E11-42F4-9E9B-3E0DC991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02A-052B-4CE9-B055-7D55D46D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C78-29E5-4B92-81C3-EA8B3C66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CC6-9996-47F7-A4B3-A7568CD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468-DD77-41FE-9EEC-E47FD8BB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9C1-1E99-4283-84C8-EA98FD8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B17-0C42-4240-ABC1-680D0252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871-0810-4B79-9939-254B004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AAEC-9865-40D2-9786-FC9DE351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species usually have optimal ranges for all cellula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species, seeds will only germinate after a period of “cold treat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4" descr="5414381_orig.jpg"/>
          <p:cNvPicPr/>
          <p:nvPr/>
        </p:nvPicPr>
        <p:blipFill>
          <a:blip r:embed="rId1"/>
          <a:srcRect l="19599" t="0" r="195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63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plants be affected by climat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roots, holds water &amp; dissolved nutrients, allows roots to exchang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characteristics include amount of sand, clay, humus,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5" descr="int-soil-1213.jpg"/>
          <p:cNvPicPr/>
          <p:nvPr/>
        </p:nvPicPr>
        <p:blipFill>
          <a:blip r:embed="rId1"/>
          <a:srcRect l="20064" t="0" r="200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35-12-MajorMeristems-L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35_12PrimaryRootGrowth.jpg"/>
          <p:cNvPicPr/>
          <p:nvPr/>
        </p:nvPicPr>
        <p:blipFill>
          <a:blip r:embed="rId1"/>
          <a:srcRect l="-34045" t="0" r="-3404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7" descr="35_18StemGrowth.jpg"/>
          <p:cNvPicPr/>
          <p:nvPr/>
        </p:nvPicPr>
        <p:blipFill>
          <a:blip r:embed="rId1"/>
          <a:srcRect l="-31306" t="0" r="-31306" b="0"/>
          <a:stretch/>
        </p:blipFill>
        <p:spPr>
          <a:xfrm>
            <a:off x="324000" y="1916280"/>
            <a:ext cx="8583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rticle-new-ehow-images-a06-m6-12-factors-germination-mung-beans-grow-1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wavelengths are absorbed by pigments in leaves, optimizing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5" descr="EMspectrum.jpg"/>
          <p:cNvPicPr/>
          <p:nvPr/>
        </p:nvPicPr>
        <p:blipFill>
          <a:blip r:embed="rId1"/>
          <a:srcRect l="0" t="-52411" r="0" b="-5241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period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day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t species time events such as flowering, dropping their leaves, etc. to changes in the length of day or quality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sci_225_2_figure9.jpg"/>
          <p:cNvPicPr/>
          <p:nvPr/>
        </p:nvPicPr>
        <p:blipFill>
          <a:blip r:embed="rId1"/>
          <a:srcRect l="0" t="-33936" r="0" b="-3393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substances obtained by plants from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, P, K) are needed in large quantitie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4" descr="Fertilizer NPK[7].jpg"/>
          <p:cNvPicPr/>
          <p:nvPr/>
        </p:nvPicPr>
        <p:blipFill>
          <a:blip r:embed="rId1"/>
          <a:srcRect l="0" t="-19811" r="0" b="-1981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1:50:39Z</dcterms:modified>
  <cp:revision>59</cp:revision>
  <dc:subject/>
  <dc:title>Plant Growth</dc:title>
</cp:coreProperties>
</file>